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5768-A33A-411A-8109-81C72EBD5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44D4-51D3-4C8C-946C-61D4E6EC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4A11-64E8-40AF-8739-217D75D48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D541-0075-4036-80E6-A04FB9EC0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6126-47A7-4321-9B65-C30FEE041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0AE0-D1E4-4131-8324-B6249E2B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18CD-E838-48BA-9C51-DD96BBB4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6A2D-DE81-4299-982E-AF9D437D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3CD7-071E-4A1A-B8C2-458A6335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B05E-893C-49B9-AE95-B50E43ED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9380-4B4F-480C-B4CA-1A4B0EF5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3B1C-1223-467F-985B-4E055FD9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791C-57E0-44B2-B910-5E7C9E4E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21B1-2612-4049-974F-D3DDF7AA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A8D7-A098-46AD-B97A-C21B5BBF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72BA-A71C-4126-A7D3-BAD458265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14C8-064F-416E-AC59-3F976DD40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1C19-1F8A-4D03-9A5D-3A342DB5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6259-6865-48CD-965F-DB0EFC75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1E07-4D4D-458F-85C6-1B8D7D65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C4DC-4EBE-4C9F-A912-A78152C5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640F-5377-4AF1-9F95-8B3F5662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6A34-DFBC-4F9A-9B0A-F9437723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4C2A-DB28-47BF-98E8-81ACA601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2103-2983-43FE-866C-3C1EC9E29A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E703-762E-4F67-BF26-C937771F7A4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26.2 Human Impact on </a:t>
            </a:r>
            <a:br>
              <a:rPr sz="4800"/>
            </a:b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Land Resource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Id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tion of minerals, farming, and waste disposal can have negative environmental impa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view of Main Ide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s require large amounts of land resou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traction of resources can disrupt Earth’s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ing populations increase the demand for food and result in increased urba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iculture, poor forestry practices, and urban development can cause habitat loss, increased erosion, and water pol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impact on land resources can be minimized through the use of modern techniqu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ining for Resour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resource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ron, aluminum, copper, sand, gravel, and limest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ction of these resources often disturbs large areas of Earth’s surf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nd water can become polluted, natural habitats can be disturbed or destroyed, and air quality can suff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storing the Lan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cla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he process in which a mining company restores land used during mining operations to its original contours and replants vege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you this it is important to have legislation that requires mining companies to restore land to its original contou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Underground Min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ground mining is also called “subsurface min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ground mining vs. Surface m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ground mining is less disruptive to the land surface than surface mining, but it still has impacts on the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orest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fores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removal of trees from a forested area without adequate replanting, often using clear-cutting, which can result in loss of topsoil and water pol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Urban Developm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person in the U.S. generates an average of 5 lbs. of solid waste per da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re does this all g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ndfill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roper disposal of wastes can result in contamination of land and water resourc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gricultur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getation and agricultural plants need nutrients from topsoil to gr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rtilizers can replace lost nutri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ffects of Pesticid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sticid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Chemical applied to plants to kill insects and wee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sticides boost food production worldwide by eliminating and controlling organisms that destroy cro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 and rain carry pesticides away from farm fields and cause pollution in nearby water 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cts can develop a resistance to an insecticide, causing farmers to increase pesticide amou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nserv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te disposal remains a problem because of the immense volume of tra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uce, Reuse, Recycle to reduce the amount of solid was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rvation of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ioremedi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use of organisms and the environments in which they l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0T16:53:26Z</dcterms:created>
  <dc:creator>Dania</dc:creator>
  <dc:description/>
  <dc:language>en-US</dc:language>
  <cp:lastModifiedBy>Dania</cp:lastModifiedBy>
  <dcterms:modified xsi:type="dcterms:W3CDTF">2009-12-20T17:57:31Z</dcterms:modified>
  <cp:revision>2</cp:revision>
  <dc:subject/>
  <dc:title>Human Impact on  Land Resources</dc:title>
</cp:coreProperties>
</file>